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50463947"/>
        <c:axId val="59699424"/>
      </c:barChart>
      <c:catAx>
        <c:axId val="50463947"/>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9699424"/>
        <c:crosses val="autoZero"/>
        <c:auto val="1"/>
        <c:lblAlgn val="ctr"/>
        <c:lblOffset val="100"/>
        <c:noMultiLvlLbl val="0"/>
      </c:catAx>
      <c:valAx>
        <c:axId val="59699424"/>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0463947"/>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B7AC20-F17F-4EFF-9A9C-2224BD7C5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2CFA2-4FC4-4885-AA8C-E521F6E0A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7B38B-C104-4D45-B818-74C931A61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CF001-2117-4C12-915F-4F066E7CB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D22632-40B7-431F-A0C0-B888181A74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A7E500-3996-417F-A93E-83FE78DD4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74170-7587-4C88-928C-C0DB7F51F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3C98F-FE00-4EEB-B74A-4008A2A36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4CC4B-95D2-48F7-9F61-D3BAC642E2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83C9B-4CDE-4678-8595-6FEB7468C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D8BF6-5297-418F-B557-572BEE40C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19BA7-9F21-466A-BA14-8B166161B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5713F-1B4D-44F7-B1B2-D107351FE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3AB6F-7CB5-454E-AE8A-DF274244F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9972D-6702-4724-91DF-C515C32B9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B0ECC6-9266-4F29-A8CD-BC7C9923D4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719CF8-86DE-44AD-9F32-B6489BD6CF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F7F83-AE3F-424C-A4FD-4E0ADBFA1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02FCB-9BE7-4CAC-A8C8-B45EDD780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63A58-9485-456B-844F-B660D8714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4B787-196B-4D8A-9C8F-438B2BC8D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6F7FD-8B1F-47EF-8976-A33673AF2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1E60F-03B9-4EC1-BC80-928BB698B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8CE49-54FC-4666-ADEE-F1AC73D46B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270B37-AB62-4642-AC55-EC0EF1610251}"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B2C4E0-257A-4AE4-8ABF-549F35032AB0}"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